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0CAF-FFEE-42A2-AD7D-A67DADF26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onstitutes 98-99% of the matter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0C8-B46D-4900-A558-184CEF16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2AA-796E-4895-9BEE-4E221DE8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34F-E071-41D1-ADCB-D750CFFE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02D-08B7-4CB6-8C55-1678B9A5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DD9B-7BB9-4561-AC10-41D3EAB0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2927-BDBD-4D45-BCDB-A903D3D1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40D-175E-4D84-9157-CB95DD57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83DC-6FD3-4CED-8352-3140CF1B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B06C-D8E6-47BB-9BB9-442CCA4A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1BFD-22C2-4D3C-A780-117D88F5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19D7-9267-461C-AA71-B3659B5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1E9-58FA-482B-AA89-7F7DD14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0B3A-F7A2-4E7C-B499-7ED3C542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A165-CDE5-4CFD-9865-E782408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676B-FF86-4547-B664-759855B5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2738-4F1F-40EB-8B23-2E20CC48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1CBC-D958-4DDA-A8D8-E52761F3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FF35-AC17-49E3-A681-882443A9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E673-381F-4B17-998B-A751BC09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B3C4-5AD1-42FA-8611-BC29EBE5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A3D5-E79D-4FF8-BC6C-CC9C502F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3A76-B672-465D-9DF5-69478636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130-E33B-47D3-8413-2A69F306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A772-FAF8-4358-9F57-E07AC236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A665-14F7-4C87-B0F4-F8A544E7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EBD3-7FED-4CB0-A4C6-724AF153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922C-EB9E-4448-B289-02542D4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F6DF-CD15-4A5E-BB00-0EA22441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27D9-64F0-4D3C-9EF3-412A8E2C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621E-63E2-4B2E-BD14-8CC46B85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8E6-D421-455C-9F52-4CCDECD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47E-6C68-4C79-A79A-86AB593A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2C6-D947-48E1-B964-6F2F4835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BAB-BF2B-4871-BC09-A0E52A0C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F45-687D-401A-B840-906D9578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49D-72F9-4B6C-BB6C-BDFB28BE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1AB3-6032-43FD-A70E-15C6C5C80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360A-01B1-4ADC-9132-76B85346E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B2AE-AB3A-489F-BA30-7A2E1F0D5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../States%20of%20matter.ppt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What does a traditional lesson look like?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114800" y="3733920"/>
            <a:ext cx="406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Activity Evaluation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they learn abou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the students do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is simple and affordabl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is inquir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What does a cookbook lab look like?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057400" y="22096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e procedu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gned factual ques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correct explanation provided by teach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Problems with Cookbook Activities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1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don’t have to thin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bjective becomes finishing the procedur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spcAft>
                <a:spcPts val="3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often little transfer from lab to theor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Activity Requirements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substantially inquiry-ba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have to be an original idea, but you must contribute significant improv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take ~40 minute class peri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activity requires a longer time frame, you mu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scribe the additional steps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ovide examples of the end products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ctivity write-up includes: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7920" y="1676160"/>
            <a:ext cx="632484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nale / student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ials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ctivity write-up includes: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activities and web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538956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2368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OOBLECK: </a:t>
            </a:r>
            <a:br>
              <a:rPr sz="5400"/>
            </a:b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 2 parts cornstarch and 1 part wat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ur the water into a Ziploc bag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 food color to water (optional)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 cornstarch a little bit at a time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ose bag and knead the contents as needed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have Oobleck when you can squeeze as a solid and pour as a liqui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 a few drops of water if the Oobleck is crumbly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29400" y="533520"/>
            <a:ext cx="228600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GLURCH:</a:t>
            </a:r>
            <a:br>
              <a:rPr sz="5400"/>
            </a:b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r 1 tablespoon of Elmer’s Glue into a snack-size Ziploc bag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1 tablespoon of a saturated Borax solu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food coloring (optional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ip the bag shut and begin kneading it to mix the cont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1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his may take a few minutes.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How to make a potentially boring topic even more boring.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581280"/>
            <a:ext cx="67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How to make a potentially boring topic more interes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666880" y="533520"/>
            <a:ext cx="509436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3"/>
          </p:cNvPr>
          <p:cNvSpPr/>
          <p:nvPr/>
        </p:nvSpPr>
        <p:spPr>
          <a:xfrm>
            <a:off x="8381880" y="6248520"/>
            <a:ext cx="381240" cy="304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What state is this?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6629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ould you expect if something i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solid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iquid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gas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807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So what state is this stuff?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What state is this?</a:t>
            </a:r>
            <a:br>
              <a:rPr sz="5400"/>
            </a:b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(more directed)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0106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with a magnifying le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hale gently on the shaving cre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 some between your fing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fully place a penny on top and obser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 overnight and observe again in the mornin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teacher tip: Put shaving cream directly on the students’ desks. After they have observed it, they can use wet paper towels to clean their deskto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Are there really only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three states of matter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296200" cy="4426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248520" y="1981080"/>
            <a:ext cx="21333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676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Tahoma"/>
              </a:rPr>
              <a:t>Choosing Your Activity</a:t>
            </a:r>
            <a:endParaRPr b="1" lang="en-US" sz="6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0:41:46Z</dcterms:created>
  <dc:creator>Cynthia J. Moore</dc:creator>
  <dc:description/>
  <dc:language>en-US</dc:language>
  <cp:lastModifiedBy>Cynthia Moore</cp:lastModifiedBy>
  <dcterms:modified xsi:type="dcterms:W3CDTF">2011-01-26T20:25:19Z</dcterms:modified>
  <cp:revision>41</cp:revision>
  <dc:subject/>
  <dc:title>Slide 1</dc:title>
</cp:coreProperties>
</file>